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AA0-6A95-40A3-9482-2AFE9D36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822-1254-4BC8-A35F-2000130C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0EF-3DB7-4D8D-9B6C-D2FA11FD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0B5-AC11-4958-AD9E-C334095E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2DF1-AEAA-463A-AA53-F9E25A03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DD83-1AD9-4705-A1CF-E04B20AA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384C-21AF-4E09-BF75-7F6AC4FF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CB72-2D8B-4AF8-8D7C-3BA5B8B7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6E12-667D-4A56-A2E3-7F30C861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66EA-3944-4164-BBA6-1122535B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0D80-091D-437E-B001-13E716E6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562-0695-4054-8BEA-EF94B999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CC71-A47F-41A6-BED9-5BB2771E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0577-00DA-41EB-98AE-A2DACFB5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314E-3E91-4021-AC5D-465CF4BA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2689-5D5E-4D2B-8DCF-900B9593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B5CC-20F6-4384-AC89-EF20E9B4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821-1853-4236-AEBB-B51FD2FF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301-8B1F-4C02-B695-A09FD749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057-2B62-4136-AAB5-70E42F4F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C27-DAAC-40C4-8FF5-5C3A9190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1BC-32B2-4E34-9287-21D0E9E1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527-4F27-4B04-ADE7-61AE65F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251-BEFA-4AB8-95C0-2BBDBAA1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DDF1-88EF-481B-BAF1-32D0499A1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F564-9FF9-444B-9A45-B617D2272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o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El modo de ser aristocrá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..Cúmulo de creencias, de valores, de categorías, de conocimiento, en suma de significados construidos por esta clase a partir de su experiencia histórica y que, una vez cristalizados en la consecuencia de sus miembros, identifica su comportamiento”. (Barros y Vergara, 1978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Sui especifico “modo de ser” operó en dos direccion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) hacia dentro dio a los miembros de los grupos oligárquicos una base conjunta de significados compartidos que les permitió identificarse como iguale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i) hacia fuera condicionó las formas como interpretaron la realidad de su época, y sobre todo, se enfrentaron con e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rría la primera década del siglo XX cuando el entonces Presidente Pedro Montt saludó en un telegrama a su colega argentino Roque Sáenz Peñ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a nombre del Gobierno, la sociedad y pueblo chileno”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La respuesta recibida era, sin embargo, solo “… a nombre del Gobierno y pueblo argentino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8358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población chilena del siglo XIX y comienzos del XX se encontraba irreconociliablemente divid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s grupos oligárquicos habían logrado desarrollar un sentido de conjunto, autoidentifiándose como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resto de la población, dispersa en los campos y en los suburbios de las ciudades, era difuminada en categorías como “pueblo”, “muchedumbr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 resto de la población no se le tendrá significativamente en cuenta en el quehacer de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ueblo” no era mucho más que el nombre genérico dado a una de las formas que asumía lo exterior, al interior del propio territo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respecto a ese exterior se actuará por exclusión: social, en un nivel; política, administrativa y legal en ot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buen tono” como forma de vida y la interpretación de las relaciones con el exterior provoco la desvinculación de la oligarquía de los demás sectores socia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interpretación de las relaciones con el exterior genero una comprensión de las relaciones laborales en términos de vinculo mor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 anterior tenia su origen en la forma como era concebido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pueblo era valorado por su condición de servidor y las características que esa condición suponía: sumisión, lealtad, disponibilidad al trabajo y honradez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ero a la vez era visto como alguien que en cualquier momento podía sucumbir a su naturaleza inferior y ahí era entonces sanguinario, brutal, borracho, supersticioso,  deprav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exclusión social, cimentada sobre situaciones históricas de larga data de privilegio económico, caracterizo la forma de relaciones entre la “sociedad” y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ella se manifestaba toda la indiferencia que los aristócratas sentían por los “rotos”; al punto que los llego a ignorar y, por lo mismo, a ser indolente ante su sit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modo de ser” aristocrático será el mecanismo de bloque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24T13:05:57Z</dcterms:modified>
  <cp:revision>24</cp:revision>
  <dc:subject/>
  <dc:title>La compleja herencia del siglo XIX</dc:title>
</cp:coreProperties>
</file>